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58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70.xml" ContentType="application/vnd.openxmlformats-officedocument.presentationml.slide+xml"/>
  <Override PartName="/ppt/slides/slide115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98.xml" ContentType="application/vnd.openxmlformats-officedocument.presentationml.slide+xml"/>
  <Override PartName="/ppt/slides/slide106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97.xml" ContentType="application/vnd.openxmlformats-officedocument.presentationml.slide+xml"/>
  <Override PartName="/ppt/slides/slide105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2F9C-BFE0-4D96-8823-1A707CF66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F361-D5D3-466F-9B30-3035C0EBE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0504-3085-434D-8ABD-17B96746F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FC6B-5D91-4CE1-BFE3-71B31120E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A807-5B9D-4162-A6C2-4C5682B02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DF03-B17F-4071-9745-380B4D905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827D-D738-42AE-A460-C20F8E2A8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6234-1793-4C96-9FEB-D8C6EF9FA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E6E7-9427-463A-BD0E-F18A7FD53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2E2C-03AC-4F4C-B255-BEFC9A0E7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3B12-3DC8-4C4B-9034-802DDE20F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36BD-8FC6-48AC-9963-BD0759671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18C6D-8058-42B8-903E-C7EA8DEDBB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0" y="18288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Групе намирница. Енергетска вредност хране. Калориметрија. Енергетска густин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286000" y="44197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оматологи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ћа недеља настав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3"/>
          <p:cNvSpPr/>
          <p:nvPr/>
        </p:nvSpPr>
        <p:spPr>
          <a:xfrm>
            <a:off x="0" y="0"/>
            <a:ext cx="91440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ЖИТАРИЦЕ И ПРОИЗВОД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Times New Roman"/>
              </a:rPr>
              <a:t>Браш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Спадa у груп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млинских произв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Типови брашн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Бело брашно (тип 400),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најфи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је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са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нaјмањим степeном издвајaњ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Црно брашно (тип 1200 ил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 1000),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грубље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скорo без 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з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двајaња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(сачувало скорo у потpуности 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олoшку вредност интегралног зрна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Грахaм брашно (тип 1800), груб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без 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з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двајaња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(сачувало скорo у потpуности 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олoшку вредност интегралног зрн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3"/>
          <p:cNvSpPr/>
          <p:nvPr/>
        </p:nvSpPr>
        <p:spPr>
          <a:xfrm>
            <a:off x="0" y="0"/>
            <a:ext cx="91440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3. МАСТИ И УЉА - поде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ти биљног пoрекл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ргар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вод добијен из биљних уља посебном технологиј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o конзистенцији мoже бити чврст, мeкан и теча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aјчешћe му сe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ит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и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, 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обичајено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aдржи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80%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ти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 % воде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а у н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ј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eмe п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во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е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40%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лем-транс масне кисели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КТИЧНИ ДЕ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457200" y="304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валитет хран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разумев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уп својстав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и се односе на могућност д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ана задовољи нутритивне и физиолоке потребе организм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Храна мора бити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равствено безбедн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бјективан приступ квалитету хран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ља процена потрошача о прихватљивости,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снована на стеченом утиску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тепену доживљеног задовољства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јективан приступ квалитету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као мера својстава хране,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снован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аналитичом п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тупу и испитивању,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рењу одабраних показатеља и обради податак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4" descr="Picture12.png"/>
          <p:cNvPicPr/>
          <p:nvPr/>
        </p:nvPicPr>
        <p:blipFill>
          <a:blip r:embed="rId1"/>
          <a:stretch/>
        </p:blipFill>
        <p:spPr>
          <a:xfrm>
            <a:off x="0" y="4648320"/>
            <a:ext cx="9144000" cy="306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1"/>
          <p:cNvSpPr/>
          <p:nvPr/>
        </p:nvSpPr>
        <p:spPr>
          <a:xfrm>
            <a:off x="457200" y="58680"/>
            <a:ext cx="81532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ма Интернационалном систему јединиц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рна јединица за енергију је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žul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Један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žul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ља количину енергије потребну да се тело масе 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g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мери за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меном силе од 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кос препорукама да се за изражавање енергетске вредности хране користи Ј. односно кЈ,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држај енергије намирница често се  изражава калоријама,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дносно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ло-калоријама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алориј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је количина енергије потребне да се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оде загреје за 1 °Ц при нормалном атмосферском притиску (1 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m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илокалориј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cal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је 1 000 пута већа количина енергије од калорије и дефинише се као количина енергије потребна да се 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g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оде загреје за 1Ц при нормалном атмосферском пригску (1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m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пракси се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ергетска вредност хране изражава коришћењем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cal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лл кЈ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За конверзију се користе следећи фактор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kJ = 0.239 kcal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kcal = 4.184 k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анљиве материје у намирницама (протеини, масти и угљени хидрати) садрже онолико енергије колико је било потребно за њихову синтез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држај  енергије намирница може да се одреди сагоревањем намирница у калориметријској бомб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израчунавањем на основу конверзионих фактора или израчунавањем на основу бруто формула једињења која  улазе у састав намирниц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380880" y="228240"/>
            <a:ext cx="838224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упна енергија хране одређује се мерењем топлотне енергије која се ослобађа током сагоревања хране у калориметрској бомби </a:t>
            </a:r>
            <a:r>
              <a:rPr b="1" i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директна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лориметрија).</a:t>
            </a:r>
            <a:br>
              <a:rPr sz="2000"/>
            </a:b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лориметријска бомба је затворена посуда унутар које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зорак хране сагорева у присуству кисеоника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гореваргем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оксидацијом) хране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лобађа се топлота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а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грева воду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воденом купатилу изолованом од спољашње средине.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основу пораста температуре воде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рачунава се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ина енергије која се  ослобађа  из узорка намирнице.</a:t>
            </a:r>
            <a:br>
              <a:rPr sz="2000"/>
            </a:b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горевањем 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теина у калометријској бомби отпушта (у просеку) 24 кЈ. или 5,6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cal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енергије.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сидација протеина у калориметријској бомби је комплетн</a:t>
            </a:r>
            <a:r>
              <a:rPr b="1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до смеше оксида), за разлику од оксидације протеина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људском телу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а резултира настанком урее и других азотних једињења (креатинин, мокраћна киселина)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бог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отпуне оксидације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еинског азота,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ина енергије која се у организму ослободи из протеина је мања у односу на енергију ослобођену у калориметријској бомб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хуманом организму се из 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еина ослобађа у просеку 17кЈ, односно 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cal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води сагоревања масти и угљених хидрата у калориметријској бомби идентични су производима сагоревања масти у угљених хидрата у хуманом организму (угљен диоксид и вода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457200" y="-36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ергетска вредност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ти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исхрани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иси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више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 масних киселин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је улазе у састав триацилглицерола. Сагоревањем 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асти ослобада се (у просеку) 37 кЈ, односно 9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cal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енергије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а 1.2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ергија коју садрже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љени хидрати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ис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 броја моносахаридних јединица и типа гликозидних веза у молекулу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Сагоревањем 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гљених хидрата ослобађа се (у просеку) 17 кЈ, односно 4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cal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ергије (Табела 1.2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ма појединим изворима, просечна количина енергије која се ослободи при сагоревању 1 г хранљивих материја износи 19,7 кЈ (4,7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cal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за протеине, 39,5 кЈ (9,45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cal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за масти и 17,5 кЈ (4,18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cal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за угљене хидрате, док претходно наведене вредности одговарају метаболизму доступној енергији након губитка дела хранљивих материја урином и фецесом (енги. метаболизабле енергy). Садржај енергије 1 г протеина (17 кЈ), масти (37 кЈ) и угљених хидрата (17 кЈ) представља заокружене просечне енергетске вредности 1 г хранљивих материја према Организацији за храну и пољопривреду  уједињених нациј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сидацијом минерала не ослобађа се енергија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ергија која се добија оксидацијом витамина је занемарљива, због мале количине витамина присутне у намирницама у односу на количине хранљивих материј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Content Placeholder 4" descr="Picture2.png"/>
          <p:cNvPicPr/>
          <p:nvPr/>
        </p:nvPicPr>
        <p:blipFill>
          <a:blip r:embed="rId1"/>
          <a:stretch/>
        </p:blipFill>
        <p:spPr>
          <a:xfrm>
            <a:off x="838080" y="577800"/>
            <a:ext cx="7086600" cy="554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рачунавање енергетске вредности намирница са познатим уделом хранљивих материја </a:t>
            </a:r>
            <a:br>
              <a:rPr sz="29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ергетска вредност намирница може да се израчуна уколико је процентуални удео протеина масти и угљених хидрата у намирници познат. За израчунавање се користе фактори за прерачунавање садржаја хранљивих материја у јединице енергије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односно подаци добијени директном калориметријом. </a:t>
            </a: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енути фактори су 17 кЈ (4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cal</a:t>
            </a: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37 кЈ (9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cal</a:t>
            </a: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и 17 кЈ (4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cal</a:t>
            </a: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за </a:t>
            </a:r>
            <a:r>
              <a:rPr b="1" i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еине, масти и угљене хидрате</a:t>
            </a: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редом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ергетска вредност (ЕВ) намирнице изрчаунава се као: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В = % протеина x 4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cal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% масти x 9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cal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% угљених хидрата x 4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ca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В = % протеина x 17 кЈ + % масти x 37 кЈ + % угљених хидрата x 17 кЈ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 израунавања енергетске вредности 100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мирнице приказан је у </a:t>
            </a:r>
            <a:r>
              <a:rPr b="0" lang="sr-R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бели 1.3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Content Placeholder 5" descr="Picture4.png"/>
          <p:cNvPicPr/>
          <p:nvPr/>
        </p:nvPicPr>
        <p:blipFill>
          <a:blip r:embed="rId1"/>
          <a:stretch/>
        </p:blipFill>
        <p:spPr>
          <a:xfrm>
            <a:off x="609480" y="533520"/>
            <a:ext cx="7696440" cy="5592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3"/>
          <p:cNvSpPr/>
          <p:nvPr/>
        </p:nvSpPr>
        <p:spPr>
          <a:xfrm>
            <a:off x="0" y="0"/>
            <a:ext cx="9144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ЖИТАРИЦЕ И ПРОИЗВОД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Брашн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Данaс владa посебан и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терeс за </a:t>
            </a:r>
            <a:r>
              <a:rPr b="1" lang="fr-FR" sz="3600" spc="-1" strike="noStrike">
                <a:solidFill>
                  <a:srgbClr val="000000"/>
                </a:solidFill>
                <a:latin typeface="Times New Roman"/>
              </a:rPr>
              <a:t>пшенич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fr-FR" sz="3600" spc="-1" strike="noStrike">
                <a:solidFill>
                  <a:srgbClr val="000000"/>
                </a:solidFill>
                <a:latin typeface="Times New Roman"/>
              </a:rPr>
              <a:t>е клице,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 које су биолoшки врло вреднe (</a:t>
            </a:r>
            <a:r>
              <a:rPr b="1" lang="fr-FR" sz="3600" spc="-1" strike="noStrike">
                <a:solidFill>
                  <a:srgbClr val="000000"/>
                </a:solidFill>
                <a:latin typeface="Times New Roman"/>
              </a:rPr>
              <a:t>садрже масне киселине, витамине Е и А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Брашно треба чувати добрo упаковано, у ориг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нал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ој амбaлажи, на сувом и хладном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есту које je добрo проветрeн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рачунавање енергетске вредности намирница на основу бруто формул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ергетска вредност намирница може да се израчуна на основу енергије везивања водоника и угљеника, ако су познате бруто формуле једињења која улазе у састав намирница. Описана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а погодн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је само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намирнице које садрже углавном угљеник и водоник (масти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р присуство кисеоника отежава израчунавање енергетске вредности намирниц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тупност енергије из намирница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тходно описаним методама процењује се укупна енергија садржана у намиирнцама  (сирова енергија). Сирова енергија намирница није у потпуности доступна  хуманом организму. Део енергије намирница губи се услед губитка хранљивих материја урином и фецесом.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коришћење преостале сирове енергије зависи од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пена дигестибилности намирниц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пена апсорпције хранљивих материј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дигестивног тракта који су функција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рикса намирнице (нпр. присуство дијетних влакана, врсте протеина)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ина припреме намирнице 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ина инидивидуе која конзумира намирницу (старост, присуство болести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о сирове енергије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и се </a:t>
            </a: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организму искористи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ива се ,,</a:t>
            </a: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коришћена енергија”. Однос </a:t>
            </a:r>
            <a:r>
              <a:rPr b="1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ергије коју организам искористи </a:t>
            </a: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1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ергије која се унесе у организам </a:t>
            </a: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ља </a:t>
            </a:r>
            <a:r>
              <a:rPr b="1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ктор искоришћења енергије из намирница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Ф):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ктор искоришћења енергије из намирница = Чиста енергија /Сирова енергија намирница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та енергетска вредност намирница добија се множењем сирове енергетске вредности намирница фактором искоришћења енергије из намирница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и израунавања сирове и чисте енергетске вредности 100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мирнице прик азан је у табели 1.4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Content Placeholder 3" descr="Picture7.png"/>
          <p:cNvPicPr/>
          <p:nvPr/>
        </p:nvPicPr>
        <p:blipFill>
          <a:blip r:embed="rId1"/>
          <a:stretch/>
        </p:blipFill>
        <p:spPr>
          <a:xfrm>
            <a:off x="457200" y="990720"/>
            <a:ext cx="8229600" cy="458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ергетска густина намирниц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ергетска густина представља количину енергије у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cal</a:t>
            </a:r>
            <a:r>
              <a:rPr b="1" lang="sr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ли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</a:t>
            </a:r>
            <a:r>
              <a:rPr b="1" lang="sr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 садржану у јединици масе или запремине намирница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лике у енергетској густини појединих намирница пследица су различите заступљености атома угљеника, водоника и кисеоника у намирни</a:t>
            </a:r>
            <a:r>
              <a:rPr b="0" lang="sr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ама. </a:t>
            </a:r>
            <a:r>
              <a:rPr b="0" i="1" lang="sr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мирнице већег процентуалног садржаја </a:t>
            </a:r>
            <a:r>
              <a:rPr b="1" i="1" lang="sr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ти  и шећера</a:t>
            </a:r>
            <a:r>
              <a:rPr b="0" i="1" lang="sr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ају </a:t>
            </a:r>
            <a:r>
              <a:rPr b="1" i="1" lang="sr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ику енергетску густину </a:t>
            </a:r>
            <a:r>
              <a:rPr b="0" lang="sr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разлику од </a:t>
            </a:r>
            <a:r>
              <a:rPr b="0" i="1" lang="sr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мирница са високим процентуалним  садржајем </a:t>
            </a:r>
            <a:r>
              <a:rPr b="1" i="1" lang="sr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е и дијетних влакана </a:t>
            </a:r>
            <a:r>
              <a:rPr b="0" lang="sr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е углавном имају </a:t>
            </a:r>
            <a:r>
              <a:rPr b="1" i="1" lang="sr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ску енергетску густину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ергетска густина хране =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ергетска вредност хране / маса хран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0" y="9907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0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nb-NO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; 2100 kJ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</a:t>
            </a:r>
            <a:r>
              <a:rPr b="1" lang="nb-NO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 g; 2000 kJ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                                                                      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жа енергетска густина        Виша енергетска густи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0 кЈ</a:t>
            </a: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0 гр.</a:t>
            </a: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4 кЈ/</a:t>
            </a: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0</a:t>
            </a: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Ј</a:t>
            </a: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0 гр.</a:t>
            </a: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кЈ/</a:t>
            </a: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Picture 2" descr=""/>
          <p:cNvPicPr/>
          <p:nvPr/>
        </p:nvPicPr>
        <p:blipFill>
          <a:blip r:embed="rId1"/>
          <a:stretch/>
        </p:blipFill>
        <p:spPr>
          <a:xfrm>
            <a:off x="0" y="1676520"/>
            <a:ext cx="4495680" cy="37335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3" descr=""/>
          <p:cNvPicPr/>
          <p:nvPr/>
        </p:nvPicPr>
        <p:blipFill>
          <a:blip r:embed="rId2"/>
          <a:stretch/>
        </p:blipFill>
        <p:spPr>
          <a:xfrm>
            <a:off x="4800600" y="1676520"/>
            <a:ext cx="4343400" cy="373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порука Америчког института за проучавање рака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erican Institute for Cancer Research — AICR)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јесте да се ограничи унос енергетски густих намирница. Под енергетски густим намирницама подразумевају се намирнице које садрже више од 225-27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cal/100g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опулационом нивоу, просечна енергетска густина конзумираних намирница треба да буде смањена на 125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cal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10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 индивидуалном нивоу, препорука је да се енергетски густе намирнице уносе што ређе и у то мањим порцијам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3"/>
          <p:cNvSpPr/>
          <p:nvPr/>
        </p:nvSpPr>
        <p:spPr>
          <a:xfrm>
            <a:off x="0" y="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 ЖИТАРИЦЕ И ПРОИЗВОД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0000"/>
                </a:solidFill>
                <a:latin typeface="Times New Roman"/>
              </a:rPr>
              <a:t>Хлеб и пеци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Хлеб је производ од жита и може да се прави од брашна различите издвојености, а од тога зависе особине и хранљива вреднос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3"/>
          <p:cNvSpPr/>
          <p:nvPr/>
        </p:nvSpPr>
        <p:spPr>
          <a:xfrm>
            <a:off x="0" y="0"/>
            <a:ext cx="9144000" cy="46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ЖИТАРИЦЕ И ПРОИЗВОД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Хлеб и пеци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Тради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онал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о хлеб се добија </a:t>
            </a: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мешањем брашнa, воде и квасцa уз д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атaк соли,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а може сe обoгат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ти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разли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тим до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ацима (кромпир, млеко, семeнке, мекиње и др.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Остављa се да </a:t>
            </a: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стоји на топлoм ради фермeнтације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, а онда се </a:t>
            </a: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пeче на високoј темпeратури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(по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ечeњу је стери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л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ан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3"/>
          <p:cNvSpPr/>
          <p:nvPr/>
        </p:nvSpPr>
        <p:spPr>
          <a:xfrm>
            <a:off x="0" y="0"/>
            <a:ext cx="9144000" cy="48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ЖИТАРИЦЕ И ПРОИЗВОД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000000"/>
                </a:solidFill>
                <a:latin typeface="Times New Roman"/>
              </a:rPr>
              <a:t>Хлеб и пеци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Добрo печeн хлеб треба дa има корицу мрке боје и правилне мале шупљине у среди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Добрo охлађен може да се чув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краће времe 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на </a:t>
            </a: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собнoј темпeрату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л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дуже (пар данa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) у амбaлажи (целофану) </a:t>
            </a: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ил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 фризу на -18 </a:t>
            </a:r>
            <a:r>
              <a:rPr b="1" lang="fr-FR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C до 40 дан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3"/>
          <p:cNvSpPr/>
          <p:nvPr/>
        </p:nvSpPr>
        <p:spPr>
          <a:xfrm>
            <a:off x="0" y="0"/>
            <a:ext cx="91440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Times New Roman"/>
              </a:rPr>
              <a:t>2. ПОВРЋ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Поврће обухвата плодове и делове повртарских биљака које се уобичајено користе у исхрани људи. То су најчешће: лишће, главице, луковице, кртоле,  махуне или стабло у свежем или прерађеном облик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У исхрани нашег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тановништва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 поврће чини 6% уноса намирнице биљног порекла. То говори о врло скромном унос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3"/>
          <p:cNvSpPr/>
          <p:nvPr/>
        </p:nvSpPr>
        <p:spPr>
          <a:xfrm>
            <a:off x="0" y="0"/>
            <a:ext cx="914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Times New Roman"/>
              </a:rPr>
              <a:t>2. ПОВРЋ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Поврће садржи </a:t>
            </a:r>
            <a:r>
              <a:rPr b="1" lang="fr-FR" sz="3600" spc="-1" strike="noStrike">
                <a:solidFill>
                  <a:srgbClr val="000000"/>
                </a:solidFill>
                <a:latin typeface="Times New Roman"/>
              </a:rPr>
              <a:t>највише воде, а најмање масти, па му је енергетска вредност мала. 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Ово се </a:t>
            </a:r>
            <a:r>
              <a:rPr b="1" lang="fr-FR" sz="3600" spc="-1" strike="noStrike">
                <a:solidFill>
                  <a:srgbClr val="000000"/>
                </a:solidFill>
                <a:latin typeface="Times New Roman"/>
              </a:rPr>
              <a:t>не односи на кромпир и легуминоз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Поврће садржи мешавину шећера и скроб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3"/>
          <p:cNvSpPr/>
          <p:nvPr/>
        </p:nvSpPr>
        <p:spPr>
          <a:xfrm>
            <a:off x="0" y="0"/>
            <a:ext cx="9144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Times New Roman"/>
              </a:rPr>
              <a:t>2. ПОВРЋ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Угљени хидрати су присутни у форми нескробних полисахарида изузев легуминоза које имају већи садржај целулоз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Богато је </a:t>
            </a:r>
            <a:r>
              <a:rPr b="1" lang="fr-FR" sz="3200" spc="-1" strike="noStrike">
                <a:solidFill>
                  <a:srgbClr val="000000"/>
                </a:solidFill>
                <a:latin typeface="Times New Roman"/>
              </a:rPr>
              <a:t>минералним материјама (</a:t>
            </a:r>
            <a:r>
              <a:rPr b="1" i="1" lang="fr-FR" sz="3200" spc="-1" strike="noStrike">
                <a:solidFill>
                  <a:srgbClr val="000000"/>
                </a:solidFill>
                <a:latin typeface="Times New Roman"/>
              </a:rPr>
              <a:t>K, Mg, F</a:t>
            </a:r>
            <a:r>
              <a:rPr b="1" lang="fr-FR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1" lang="fr-FR" sz="3200" spc="-1" strike="noStrike">
                <a:solidFill>
                  <a:srgbClr val="000000"/>
                </a:solidFill>
                <a:latin typeface="Times New Roman"/>
              </a:rPr>
              <a:t>витаминима (</a:t>
            </a:r>
            <a:r>
              <a:rPr b="1" i="1" lang="fr-FR" sz="3200" spc="-1" strike="noStrike">
                <a:solidFill>
                  <a:srgbClr val="000000"/>
                </a:solidFill>
                <a:latin typeface="Times New Roman"/>
              </a:rPr>
              <a:t>Бe група, C, A, E, K</a:t>
            </a:r>
            <a:r>
              <a:rPr b="1" lang="fr-FR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3"/>
          <p:cNvSpPr/>
          <p:nvPr/>
        </p:nvSpPr>
        <p:spPr>
          <a:xfrm>
            <a:off x="0" y="0"/>
            <a:ext cx="914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Times New Roman"/>
              </a:rPr>
              <a:t>2. ПОВРЋЕ - </a:t>
            </a:r>
            <a:r>
              <a:rPr b="1" i="1" lang="fr-FR" sz="3600" spc="-1" strike="noStrike">
                <a:solidFill>
                  <a:srgbClr val="000000"/>
                </a:solidFill>
                <a:latin typeface="Times New Roman"/>
              </a:rPr>
              <a:t>подела према особинама и хранљивој вредности</a:t>
            </a:r>
            <a:r>
              <a:rPr b="1" lang="fr-FR" sz="3600" spc="-1" strike="noStrike">
                <a:solidFill>
                  <a:srgbClr val="000000"/>
                </a:solidFill>
                <a:latin typeface="Times New Roman"/>
              </a:rPr>
              <a:t> 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sr-Latn-CS" sz="36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ртоласто, коренасто и луковичасто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sr-Latn-CS" sz="3600" spc="-1" strike="noStrike">
                <a:solidFill>
                  <a:srgbClr val="000000"/>
                </a:solidFill>
                <a:latin typeface="Times New Roman"/>
              </a:rPr>
              <a:t>г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лавичасто и лиснато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sr-Latn-CS" sz="36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ахунасто и поврће са плод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3"/>
          <p:cNvSpPr/>
          <p:nvPr/>
        </p:nvSpPr>
        <p:spPr>
          <a:xfrm>
            <a:off x="0" y="0"/>
            <a:ext cx="914400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Times New Roman"/>
              </a:rPr>
              <a:t>2. ПОВРЋ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Кртоласто, коренасто и луковичаст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Најзаступљеније врсте поврћа у људској исхрани.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Најпознатије поврће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из ове групе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су: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кромпир, шаргарепа, першун, лук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 и др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3"/>
          <p:cNvSpPr/>
          <p:nvPr/>
        </p:nvSpPr>
        <p:spPr>
          <a:xfrm>
            <a:off x="0" y="0"/>
            <a:ext cx="9144000" cy="52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НАМИРНИЦ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су све оно што се користи као храна и пиће, у прерађеном или непрерађеном облику, као и зачини, боје и друге материје које се додају намирницама ради конзервисања, побољшања изгледа, укуса или мириса, обогаћивања и д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3"/>
          <p:cNvSpPr/>
          <p:nvPr/>
        </p:nvSpPr>
        <p:spPr>
          <a:xfrm>
            <a:off x="0" y="0"/>
            <a:ext cx="9144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Times New Roman"/>
              </a:rPr>
              <a:t>2. ПОВРЋЕ - </a:t>
            </a:r>
            <a:r>
              <a:rPr b="1" i="1" lang="fr-FR" sz="3600" spc="-1" strike="noStrike">
                <a:solidFill>
                  <a:srgbClr val="000000"/>
                </a:solidFill>
                <a:latin typeface="Times New Roman"/>
              </a:rPr>
              <a:t>подела према особинама и хранљивој вредности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Главичасто и лиснат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Најпознатије поврће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из ове групе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су: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купус, кељ, карфиол, спанаћ, зеље, блитва, зелена салата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и др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Има изузетно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ниску калоријску,                    а високу хранљиву вреднос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3"/>
          <p:cNvSpPr/>
          <p:nvPr/>
        </p:nvSpPr>
        <p:spPr>
          <a:xfrm>
            <a:off x="0" y="0"/>
            <a:ext cx="9144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Times New Roman"/>
              </a:rPr>
              <a:t>2. ПОВРЋЕ - </a:t>
            </a:r>
            <a:r>
              <a:rPr b="1" i="1" lang="fr-FR" sz="3600" spc="-1" strike="noStrike">
                <a:solidFill>
                  <a:srgbClr val="000000"/>
                </a:solidFill>
                <a:latin typeface="Times New Roman"/>
              </a:rPr>
              <a:t>подела према особинама и хранљивој вредности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Махунасто и поврће са плод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Имају изузетан значај у исхрани људи у неразвијеним подручјима (јефтин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извор биолошки вредних беланчевина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)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Најпознатије поврће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из ове групе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су: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пасуљ, грашак, боранија, соја, кикирики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и др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3"/>
          <p:cNvSpPr/>
          <p:nvPr/>
        </p:nvSpPr>
        <p:spPr>
          <a:xfrm>
            <a:off x="0" y="0"/>
            <a:ext cx="9144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. ВОЋ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Воће чине посебне биљне врсте које св</a:t>
            </a:r>
            <a:r>
              <a:rPr b="0" lang="sr-Latn-CS" sz="36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јим плодом обавијају семе, нежне су структуре и најчешће се користе у свежем стању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Воће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садржи мешавину глукозе, фруктозе и сахарозе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у различитим односима у зависности од врсте воћ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3"/>
          <p:cNvSpPr/>
          <p:nvPr/>
        </p:nvSpPr>
        <p:spPr>
          <a:xfrm>
            <a:off x="0" y="0"/>
            <a:ext cx="9144000" cy="59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. ВОЋ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Times New Roman"/>
              </a:rPr>
              <a:t>Угљени хидрати 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су присутни </a:t>
            </a:r>
            <a:r>
              <a:rPr b="1" lang="fr-FR" sz="3600" spc="-1" strike="noStrike">
                <a:solidFill>
                  <a:srgbClr val="000000"/>
                </a:solidFill>
                <a:latin typeface="Times New Roman"/>
              </a:rPr>
              <a:t>у форми пектин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Богато је </a:t>
            </a:r>
            <a:r>
              <a:rPr b="1" lang="fr-FR" sz="3600" spc="-1" strike="noStrike">
                <a:solidFill>
                  <a:srgbClr val="000000"/>
                </a:solidFill>
                <a:latin typeface="Times New Roman"/>
              </a:rPr>
              <a:t>минералним материјама (</a:t>
            </a:r>
            <a:r>
              <a:rPr b="1" i="1" lang="fr-FR" sz="3600" spc="-1" strike="noStrike">
                <a:solidFill>
                  <a:srgbClr val="000000"/>
                </a:solidFill>
                <a:latin typeface="Times New Roman"/>
              </a:rPr>
              <a:t>K, Mg, F</a:t>
            </a:r>
            <a:r>
              <a:rPr b="1" lang="fr-FR" sz="36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1" lang="fr-FR" sz="3600" spc="-1" strike="noStrike">
                <a:solidFill>
                  <a:srgbClr val="000000"/>
                </a:solidFill>
                <a:latin typeface="Times New Roman"/>
              </a:rPr>
              <a:t>витаминима (</a:t>
            </a:r>
            <a:r>
              <a:rPr b="1" i="1" lang="fr-FR" sz="3600" spc="-1" strike="noStrike">
                <a:solidFill>
                  <a:srgbClr val="000000"/>
                </a:solidFill>
                <a:latin typeface="Times New Roman"/>
              </a:rPr>
              <a:t>C, A</a:t>
            </a:r>
            <a:r>
              <a:rPr b="1" lang="fr-FR" sz="36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3"/>
          <p:cNvSpPr/>
          <p:nvPr/>
        </p:nvSpPr>
        <p:spPr>
          <a:xfrm>
            <a:off x="0" y="0"/>
            <a:ext cx="914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. ВОЋЕ -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подела по особинама и хранљивој вред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Times New Roman"/>
              </a:rPr>
              <a:t>По особинама и хранљивој вредности разликујемо воће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богато вод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богато </a:t>
            </a:r>
            <a:r>
              <a:rPr b="1" i="1" lang="sr-Latn-C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масти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3"/>
          <p:cNvSpPr/>
          <p:nvPr/>
        </p:nvSpPr>
        <p:spPr>
          <a:xfrm>
            <a:off x="0" y="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. ВОЋЕ -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подела по особинама и хранљивој вред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Воће богато вод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Богато је водом, витаминима и минералним материјама</a:t>
            </a:r>
            <a:r>
              <a:rPr b="0" lang="nl-NL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Ниске је калоријске вредности</a:t>
            </a:r>
            <a:r>
              <a:rPr b="0" lang="nl-NL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3"/>
          <p:cNvSpPr/>
          <p:nvPr/>
        </p:nvSpPr>
        <p:spPr>
          <a:xfrm>
            <a:off x="0" y="0"/>
            <a:ext cx="9144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. ВОЋЕ -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подела по особинама и хранљивој вред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Воће богато вод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Најпознатије воће је: </a:t>
            </a:r>
            <a:r>
              <a:rPr b="0" i="1" lang="nl-NL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јабука</a:t>
            </a:r>
            <a:r>
              <a:rPr b="0" lang="nl-NL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, крушке, брескве, кајсије, </a:t>
            </a:r>
            <a:r>
              <a:rPr b="0" i="1" lang="nl-NL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трешње, </a:t>
            </a:r>
            <a:r>
              <a:rPr b="0" lang="nl-NL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вишње, </a:t>
            </a:r>
            <a:r>
              <a:rPr b="0" i="1" lang="nl-NL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цитрусно воће </a:t>
            </a:r>
            <a:r>
              <a:rPr b="0" lang="nl-NL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(лимун, поморан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џ</a:t>
            </a:r>
            <a:r>
              <a:rPr b="0" lang="nl-NL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а, мандарина, ананас и др.), малинасто воће (малине, купине, боровнице, рибизле и др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3"/>
          <p:cNvSpPr/>
          <p:nvPr/>
        </p:nvSpPr>
        <p:spPr>
          <a:xfrm>
            <a:off x="0" y="0"/>
            <a:ext cx="91440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 ВОЋЕ -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подела по особинама и хранљивој вред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Times New Roman"/>
              </a:rPr>
              <a:t>Воће богато мастим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Богато је мастима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(50%-углавном незасићене масне киселине), </a:t>
            </a:r>
            <a:r>
              <a:rPr b="1" lang="nl-N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липосолубилним витаминима, минералним материјам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Високе је калоријске вредности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!</a:t>
            </a:r>
            <a:r>
              <a:rPr b="1" lang="nl-N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Најпознатије воће је: </a:t>
            </a:r>
            <a:r>
              <a:rPr b="0" i="1" lang="nl-N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ораси, лешник, бадем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семенке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сунцокрета, бундеве и др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3"/>
          <p:cNvSpPr/>
          <p:nvPr/>
        </p:nvSpPr>
        <p:spPr>
          <a:xfrm>
            <a:off x="0" y="0"/>
            <a:ext cx="9144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4. ГЉИВ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Биолошки су врло вредне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Користе се због специфичног укуса и мириса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Садржај протеина до 2%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3"/>
          <p:cNvSpPr/>
          <p:nvPr/>
        </p:nvSpPr>
        <p:spPr>
          <a:xfrm>
            <a:off x="0" y="0"/>
            <a:ext cx="9144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Чување и обрада намирница биљног порек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Већина намирница биљног порекла производи се сезонски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Како су богате водом постоји велика могућност кварења и микробиолошке контаминациј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3"/>
          <p:cNvSpPr/>
          <p:nvPr/>
        </p:nvSpPr>
        <p:spPr>
          <a:xfrm>
            <a:off x="0" y="0"/>
            <a:ext cx="9144000" cy="55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Подела намирница по порекл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БИЉНОГ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ЖИВОТИЊСКОГ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3"/>
          <p:cNvSpPr/>
          <p:nvPr/>
        </p:nvSpPr>
        <p:spPr>
          <a:xfrm>
            <a:off x="0" y="0"/>
            <a:ext cx="914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ЧУВАЊЕ И ОБРАДА НАМИРНИЦА БИЉНОГ ПОРЕК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Заштита намирница биљног порекла може бит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i="1" lang="sr-Latn-C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к</a:t>
            </a:r>
            <a:r>
              <a:rPr b="1" i="1" lang="nl-NL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раткорочн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i="1" lang="sr-Latn-C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д</a:t>
            </a:r>
            <a:r>
              <a:rPr b="1" i="1" lang="nl-NL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угороч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3"/>
          <p:cNvSpPr/>
          <p:nvPr/>
        </p:nvSpPr>
        <p:spPr>
          <a:xfrm>
            <a:off x="0" y="0"/>
            <a:ext cx="9144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ЧУВАЊЕ И ОБРАДА НАМИРНИЦА БИЉНОГ ПОРЕК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Краткорочна</a:t>
            </a: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</a:rPr>
              <a:t>з</a:t>
            </a: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аштита намирница биљног порекла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Одмах </a:t>
            </a:r>
            <a:r>
              <a:rPr b="1" lang="nl-NL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по берби </a:t>
            </a:r>
            <a:r>
              <a:rPr b="0" lang="nl-NL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поврће и воће ставити </a:t>
            </a:r>
            <a:r>
              <a:rPr b="1" lang="nl-NL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у</a:t>
            </a:r>
            <a:r>
              <a:rPr b="0" lang="nl-NL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 одговарајућу </a:t>
            </a:r>
            <a:r>
              <a:rPr b="1" lang="nl-NL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амбалажу,</a:t>
            </a:r>
            <a:r>
              <a:rPr b="0" lang="nl-NL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 релативно брзо </a:t>
            </a:r>
            <a:r>
              <a:rPr b="1" lang="nl-NL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транспортовати и потрошит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3"/>
          <p:cNvSpPr/>
          <p:nvPr/>
        </p:nvSpPr>
        <p:spPr>
          <a:xfrm>
            <a:off x="0" y="0"/>
            <a:ext cx="9144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ЧУВАЊЕ И ОБРАДА НАМИРНИЦА БИЉНОГ ПОРЕК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Дугорочна заштита намирница биљног порекла може бити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с</a:t>
            </a:r>
            <a:r>
              <a:rPr b="1" lang="nl-NL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ушењем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с</a:t>
            </a:r>
            <a:r>
              <a:rPr b="1" lang="nl-NL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терилизацијом у аутоклаву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х</a:t>
            </a:r>
            <a:r>
              <a:rPr b="1" lang="nl-NL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емијском конзервацијом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к</a:t>
            </a:r>
            <a:r>
              <a:rPr b="1" lang="nl-NL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онзервација  са шећером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с</a:t>
            </a:r>
            <a:r>
              <a:rPr b="1" lang="nl-NL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мрзавање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3"/>
          <p:cNvSpPr/>
          <p:nvPr/>
        </p:nvSpPr>
        <p:spPr>
          <a:xfrm>
            <a:off x="0" y="0"/>
            <a:ext cx="91440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ЧУВАЊЕ И ОБРАДА НАМИРНИЦА БИЉНОГ ПОРЕК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Дугорочна заштита намирница биљног порекла- 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Сушењ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Намирница се 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излаже топлом ваздуху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(количина влаге да остане 15-20%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Конзервисане 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на овај начин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оне су најчешће 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изгубиле у садржају витамина Ц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е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, фолата и тиамина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(посебно ако су пре сушења изложене неком хемијском једињењу).</a:t>
            </a:r>
            <a:r>
              <a:rPr b="0" lang="nl-NL" sz="3200" spc="-1" strike="noStrike">
                <a:solidFill>
                  <a:srgbClr val="ffffcc"/>
                </a:solidFill>
                <a:latin typeface="Times New Roman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3"/>
          <p:cNvSpPr/>
          <p:nvPr/>
        </p:nvSpPr>
        <p:spPr>
          <a:xfrm>
            <a:off x="0" y="0"/>
            <a:ext cx="914400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ЧУВАЊЕ И ОБРАДА НАМИРНИЦА БИЉНОГ ПОРЕК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Дугорочна заштита намирница биљног порекла - 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Стерилизацијом у аутоклав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Намирнице се 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претходно оперу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и 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прокувају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(бланширају), па се 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ставе у лименке и изложе топлом ваздуху у аутоклаву на 120 </a:t>
            </a:r>
            <a:r>
              <a:rPr b="1" lang="nl-NL" sz="32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0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С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и 1 атм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осфер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Трајање стерилизације зависи од величине лименке. Уобичајено се при овом типу конзервације рачуна на губитак хидросолубилних витамина од 20-50%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3"/>
          <p:cNvSpPr/>
          <p:nvPr/>
        </p:nvSpPr>
        <p:spPr>
          <a:xfrm>
            <a:off x="0" y="0"/>
            <a:ext cx="91440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ЧУВАЊЕ И ОБРАДА НАМИРНИЦА БИЉНОГ ПОРЕК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Дугорочна заштита намирница биљног порекла - 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Хемијском конзервациј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Намирнице се конзервишу 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употребом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хемијских једињења (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со, сирћетна киселина, лимунстус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и др.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Додатком ових једињења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се 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спречава развој бактерија и гљиви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3"/>
          <p:cNvSpPr/>
          <p:nvPr/>
        </p:nvSpPr>
        <p:spPr>
          <a:xfrm>
            <a:off x="0" y="0"/>
            <a:ext cx="91440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ЧУВАЊЕ И ОБРАДА НАМИРНИЦА БИЉНОГ ПОРЕК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Дугорочна заштита намирница биљног порекла - 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Конзервација  са шећер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На овај начин се 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најчешће конзервише воће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и то прављењем 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мармелада,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џ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емова, слатка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и компот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Што је концентрација шећера мања то се мора додати неки од конзерванас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838080" y="76212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NAMIRNICE BILJNOG POREKLA</a:t>
            </a:r>
            <a:r>
              <a:rPr b="1" lang="sl-SI" sz="3600" spc="-1" strike="noStrike">
                <a:solidFill>
                  <a:srgbClr val="ffffcc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0" y="0"/>
            <a:ext cx="91440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Times New Roman"/>
              </a:rPr>
              <a:t>ЧУВАЊЕ И ОБРАДА НАМИРНИЦА БИЉНОГ ПОРЕК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Дугорочна заштита намирница биљног порекла - </a:t>
            </a:r>
            <a:r>
              <a:rPr b="1" lang="nl-NL" sz="2800" spc="-1" strike="noStrike">
                <a:solidFill>
                  <a:srgbClr val="000000"/>
                </a:solidFill>
                <a:latin typeface="Times New Roman"/>
              </a:rPr>
              <a:t>Смрзавањ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Намирнице се </a:t>
            </a:r>
            <a:r>
              <a:rPr b="1" lang="nl-N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претходно оперу и прокувају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, па се брзо </a:t>
            </a:r>
            <a:r>
              <a:rPr b="1" lang="nl-N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изложе температури од -35 </a:t>
            </a:r>
            <a:r>
              <a:rPr b="1" lang="nl-NL" sz="28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С</a:t>
            </a:r>
            <a:r>
              <a:rPr b="1" lang="nl-N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Чувају на -20 </a:t>
            </a:r>
            <a:r>
              <a:rPr b="1" lang="nl-NL" sz="28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С</a:t>
            </a:r>
            <a:r>
              <a:rPr b="1" lang="nl-N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Губитак хранљиве вредности је минималан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ако су намирнице доброг квалитета и нису дуго стајале на ваздух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2"/>
          <p:cNvSpPr/>
          <p:nvPr/>
        </p:nvSpPr>
        <p:spPr>
          <a:xfrm>
            <a:off x="0" y="167652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Times New Roman"/>
              </a:rPr>
              <a:t>НАМИРНИЦЕ ЖИВОТИЊСКОГ ПОРЕК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3"/>
          <p:cNvSpPr/>
          <p:nvPr/>
        </p:nvSpPr>
        <p:spPr>
          <a:xfrm>
            <a:off x="0" y="0"/>
            <a:ext cx="914400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Ову групу чине намирница богате беланчевинама високог квалитета и минералним материјама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Times New Roman"/>
              </a:rPr>
              <a:t>Најчешће групе ових намирница су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1" lang="nl-NL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МЕСО, РИБА, ЈАЈА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МЛЕКО И ПРОИЗВОДИ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МАСТИ И УЉ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3"/>
          <p:cNvSpPr/>
          <p:nvPr/>
        </p:nvSpPr>
        <p:spPr>
          <a:xfrm>
            <a:off x="0" y="0"/>
            <a:ext cx="9144000" cy="67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Times New Roman"/>
              </a:rPr>
              <a:t>Групе намирница биљеног порекла с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1" lang="de-DE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de-DE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ЖИТАРИЦЕ И ПРОИЗВОД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1" lang="de-DE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de-DE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ПОВРЋ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1" lang="de-DE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de-DE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ВОЋ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1" lang="de-DE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de-DE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ГЉИВ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3"/>
          <p:cNvSpPr/>
          <p:nvPr/>
        </p:nvSpPr>
        <p:spPr>
          <a:xfrm>
            <a:off x="0" y="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nl-NL" sz="36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МЕСО, РИБЕ, ЈА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МЕСО И МЕСН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 ПРАЂЕВИН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Месо и месн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 пре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ађевине су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ирови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ли пре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ађени делови ж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вотиња који се користе у исхрани људ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3"/>
          <p:cNvSpPr/>
          <p:nvPr/>
        </p:nvSpPr>
        <p:spPr>
          <a:xfrm>
            <a:off x="0" y="0"/>
            <a:ext cx="9144000" cy="47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Times New Roman"/>
              </a:rPr>
              <a:t>1. МЕСО, РИБЕ, ЈА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Times New Roman"/>
              </a:rPr>
              <a:t>МЕСО И МЕСНЕ ПРАЂЕВИНЕ - порекл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Може бити о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nl-N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Домаћих животи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(говеђе, јунеће, телеће, свињско, овчије, јагњеће, кокошије, ћуреће, пачије, гушчије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nl-N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Дивљих животиња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(дивљач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(срнеће, дивље свиње, фазанско и др.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3"/>
          <p:cNvSpPr/>
          <p:nvPr/>
        </p:nvSpPr>
        <p:spPr>
          <a:xfrm>
            <a:off x="0" y="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1. МЕСО, РИБЕ, ЈА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Месо и месне прађевине - учешће у исхран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Месо представља значајан део исхране многих народа у свету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Оно учествује у исхрани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nl-NL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са 1,2% у неразвијеним земљама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nl-NL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око 3% у земљ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а</a:t>
            </a:r>
            <a:r>
              <a:rPr b="0" lang="nl-NL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ма у развоју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са 15% развијеним земљама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3"/>
          <p:cNvSpPr/>
          <p:nvPr/>
        </p:nvSpPr>
        <p:spPr>
          <a:xfrm>
            <a:off x="0" y="0"/>
            <a:ext cx="9144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1. МЕСО, РИБЕ, ЈА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МЕСО И МЕСНЕ ПРАЂЕВИНЕ  - својство мес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Својство меса </a:t>
            </a: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(органолептичке особине, састав и присуство хранљивих материја у месу) </a:t>
            </a: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зависе од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врсте ме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старости и пола животињ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начина припрем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3"/>
          <p:cNvSpPr/>
          <p:nvPr/>
        </p:nvSpPr>
        <p:spPr>
          <a:xfrm>
            <a:off x="0" y="0"/>
            <a:ext cx="914400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Times New Roman"/>
              </a:rPr>
              <a:t>1. МЕСО, РИБЕ, ЈА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МЕСО И МЕСНЕ ПРАЂЕВИНЕ  - садржај ме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Просечно месо садрж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nl-N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50-70% воде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(проценат опада како расте проценат масти!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nl-N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15-20% беланчевина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(убраја у намирнице богате биолошки вредним беланчевинама, јер је однос аминокиселина приближан потребама човека-односи на миоалбумине и глобулине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nl-N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2-50% масти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(неки масни делови свињског и јагњећег меса садрже до 70% масти; углавносм су то засићене масне киселине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3"/>
          <p:cNvSpPr/>
          <p:nvPr/>
        </p:nvSpPr>
        <p:spPr>
          <a:xfrm>
            <a:off x="0" y="0"/>
            <a:ext cx="91440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МЕСО, РИБЕ, ЈАЈ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О И МЕСНЕ ПРАЂЕВИНЕ  - садржај мес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ергетска вредност меса </a:t>
            </a:r>
            <a:r>
              <a:rPr b="0" lang="nl-NL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 креће од </a:t>
            </a:r>
            <a:r>
              <a:rPr b="1" lang="nl-NL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0 kcal </a:t>
            </a:r>
            <a:r>
              <a:rPr b="0" lang="nl-NL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nl-NL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леће бело месо </a:t>
            </a:r>
            <a:r>
              <a:rPr b="0" lang="nl-NL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 кожице) </a:t>
            </a:r>
            <a:r>
              <a:rPr b="1" lang="nl-NL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650 kcal (масно свињско месо</a:t>
            </a:r>
            <a:r>
              <a:rPr b="0" lang="nl-NL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3"/>
          <p:cNvSpPr/>
          <p:nvPr/>
        </p:nvSpPr>
        <p:spPr>
          <a:xfrm>
            <a:off x="0" y="0"/>
            <a:ext cx="9144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1. МЕСО, РИБЕ, ЈА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МЕСО И МЕСНЕ ПРАЂЕВИНЕ  - садржај ме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Месо садржи и микронутријен</a:t>
            </a:r>
            <a:r>
              <a:rPr b="0" lang="sr-Latn-CS" sz="36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е који се добро искоришћавају и то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м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инералнe материје (K, F, Mg, Fe, Co, Cu, Z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в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итамине (B grupe, A и др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3"/>
          <p:cNvSpPr/>
          <p:nvPr/>
        </p:nvSpPr>
        <p:spPr>
          <a:xfrm>
            <a:off x="0" y="0"/>
            <a:ext cx="9144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1. МЕСО, РИБЕ, ЈА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МЕСО И МЕСНЕ ПРАЂЕВИНЕ -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чување и обра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Месо се може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чувати и обрађивати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лађење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и смрзавање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</a:rPr>
              <a:t>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ушење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</a:rPr>
              <a:t>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имљење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</a:rPr>
              <a:t>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аламурење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</a:rPr>
              <a:t>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</a:rPr>
              <a:t>прављењем м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есн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</a:rPr>
              <a:t>их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конзерв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3"/>
          <p:cNvSpPr/>
          <p:nvPr/>
        </p:nvSpPr>
        <p:spPr>
          <a:xfrm>
            <a:off x="0" y="0"/>
            <a:ext cx="91440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1. МЕСО, РИБЕ, ЈА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МЕСО И МЕСНЕ ПРАЂЕВИНЕ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чување и обра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Хлађење и смрзавањ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осле клања, примарне обраде и хлађења на температури од 0 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 до 4 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 (тзв. расхлађено месо) месо се може користит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као сиро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за кулинарску обра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рипремати за прера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3"/>
          <p:cNvSpPr/>
          <p:nvPr/>
        </p:nvSpPr>
        <p:spPr>
          <a:xfrm>
            <a:off x="0" y="0"/>
            <a:ext cx="91440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1. МЕСО, РИБЕ, ЈА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МЕСО И МЕСНЕ ПРАЂЕВИНЕ  -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чување и обра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Хлађење и смрзавањ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Сирово месо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се може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чуват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на температури о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4 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0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С највише 10 дана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(“расхлађено месо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0 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0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С највише 30 дана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(“прохлађено месо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-18 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0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С до -30 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0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С највише до 1 годи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3"/>
          <p:cNvSpPr/>
          <p:nvPr/>
        </p:nvSpPr>
        <p:spPr>
          <a:xfrm>
            <a:off x="0" y="0"/>
            <a:ext cx="914400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ЖИТАРИЦЕ И ПРОИЗВОД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Житарице, жита или церeалије су зрели плодoви култивисаних биљакa у које спадaју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Пшеница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Ра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Јечам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 Пирина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Кукуруз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Овас, и д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3"/>
          <p:cNvSpPr/>
          <p:nvPr/>
        </p:nvSpPr>
        <p:spPr>
          <a:xfrm>
            <a:off x="0" y="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1. МЕСО, РИБЕ, ЈА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МЕСО И МЕСНЕ ПРАЂЕВИНЕ  -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чување и обра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Хлађење и смрзавањ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Хранљива вредност меса остаје очувана ако је поступак замрзавања правилно изведен, а одмрзавање постепено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3"/>
          <p:cNvSpPr/>
          <p:nvPr/>
        </p:nvSpPr>
        <p:spPr>
          <a:xfrm>
            <a:off x="0" y="0"/>
            <a:ext cx="91440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1. МЕСО, РИБЕ, ЈА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МЕСО И МЕСНЕ ПРАЂЕВИНЕ  -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чување и обра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Сушењ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Месо се конзервира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излагањем струјању ваздуха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(губитком воде се зауставља ферментација и деловање микроорганизама)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3"/>
          <p:cNvSpPr/>
          <p:nvPr/>
        </p:nvSpPr>
        <p:spPr>
          <a:xfrm>
            <a:off x="0" y="0"/>
            <a:ext cx="9144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1. МЕСО, РИБЕ, ЈА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МЕСО И МЕСНЕ ПРАЂЕВИНЕ  -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чување и обра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Димљењ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Месо се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усоли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, па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излаже хладном диму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(25 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0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С)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или топлом диму                 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(65-80 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0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С)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Побољшава се мирис и укус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3"/>
          <p:cNvSpPr/>
          <p:nvPr/>
        </p:nvSpPr>
        <p:spPr>
          <a:xfrm>
            <a:off x="0" y="0"/>
            <a:ext cx="9144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1. МЕСО, РИБЕ, ЈА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МЕСО И МЕСНЕ ПРАЂЕВИНЕ  -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чување и обра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Саламурењ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Месо се третира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сољу помешаном са нитритима, нитратима, полифосфатима, шећером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 и др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3"/>
          <p:cNvSpPr/>
          <p:nvPr/>
        </p:nvSpPr>
        <p:spPr>
          <a:xfrm>
            <a:off x="0" y="0"/>
            <a:ext cx="914400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Times New Roman"/>
              </a:rPr>
              <a:t>1. МЕСО, РИБЕ, ЈА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Times New Roman"/>
              </a:rPr>
              <a:t>МЕСО И МЕСНЕ ПРАЂЕВИНЕ  -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чување и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обра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Месне конзерв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Месо се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кулинарски припреми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и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стави у лименке које се излажу температури од 120 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С и притиску од 1 атмосфере у аутоклав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Трајање стерилизације зависи од величине лименк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На овај начин месо се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може чувати веома дуго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, на собној температури у сувој и проветреној просторији.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3"/>
          <p:cNvSpPr/>
          <p:nvPr/>
        </p:nvSpPr>
        <p:spPr>
          <a:xfrm>
            <a:off x="0" y="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1. МЕСО, РИБЕ, ЈА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РИБЕ И ПР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</a:rPr>
              <a:t>ОИ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ЗВОД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Удео рибе у исхрани људи у нашој земљи је ни 10 грама дневно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3"/>
          <p:cNvSpPr/>
          <p:nvPr/>
        </p:nvSpPr>
        <p:spPr>
          <a:xfrm>
            <a:off x="0" y="0"/>
            <a:ext cx="9144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1. МЕСО, РИБЕ, ЈА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ИБЕ И ПР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ИЗВОДИ -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војства и хемијске особине  зависе о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врс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орек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тар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исхране риб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3"/>
          <p:cNvSpPr/>
          <p:nvPr/>
        </p:nvSpPr>
        <p:spPr>
          <a:xfrm>
            <a:off x="0" y="0"/>
            <a:ext cx="914400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1. МЕСО, РИБЕ, ЈА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ИБЕ И ПР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ИЗВОДИ -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поде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иба може би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Бела риба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ослић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зубатац, смуђ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пастрмк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и др.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Масна риба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(сардела, бакалар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скуш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, харинга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шаран, лосос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толстолобик и др.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Шкољке и рако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3"/>
          <p:cNvSpPr/>
          <p:nvPr/>
        </p:nvSpPr>
        <p:spPr>
          <a:xfrm>
            <a:off x="0" y="0"/>
            <a:ext cx="9144000" cy="57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Times New Roman"/>
              </a:rPr>
              <a:t>1. МЕСО, РИБЕ, ЈАЈ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РИБЕ И ПР</a:t>
            </a:r>
            <a:r>
              <a:rPr b="1" lang="sr-Latn-CS" sz="40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ИЗВОДИ - својст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Рибе су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богате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високо квалитетним беланчевинама (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есенцијалним аминокиселинама – 16-23%)</a:t>
            </a:r>
            <a:r>
              <a:rPr b="1" lang="sr-Latn-CS" sz="40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3"/>
          <p:cNvSpPr/>
          <p:nvPr/>
        </p:nvSpPr>
        <p:spPr>
          <a:xfrm>
            <a:off x="0" y="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1. МЕСО, РИБЕ, ЈА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РИБЕ И ПР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ИЗВОДИ -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свој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Садржај масти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зависи</a:t>
            </a:r>
            <a:r>
              <a:rPr b="0" lang="sr-Latn-CS" sz="3600" spc="-1" strike="noStrike">
                <a:solidFill>
                  <a:srgbClr val="000000"/>
                </a:solidFill>
                <a:latin typeface="Times New Roman"/>
              </a:rPr>
              <a:t> од врсте рибе и у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белој риби 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је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низак (до 4%)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масној риби 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је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висок (до 10%) и то незасићених масних кисели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3"/>
          <p:cNvSpPr/>
          <p:nvPr/>
        </p:nvSpPr>
        <p:spPr>
          <a:xfrm>
            <a:off x="0" y="0"/>
            <a:ext cx="9144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 ЖИТАРИЦЕ И ПРОИЗВОД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Житарице представљају значајан део исхране многих народа у свету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Оне чине у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неразвијеним земљама до 70% исхран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земљема у развоју до 50% исхран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развијеним земљама до 30% исхран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У нашој земљи данас житарице чине до 50% исхран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3"/>
          <p:cNvSpPr/>
          <p:nvPr/>
        </p:nvSpPr>
        <p:spPr>
          <a:xfrm>
            <a:off x="0" y="0"/>
            <a:ext cx="914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1. МЕСО, РИБЕ, ЈА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РИБЕ И ПР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ИЗВОДИ - свој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Садржај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воде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је у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белој риби висок (74-80%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масној риби нижи (до 70%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3"/>
          <p:cNvSpPr/>
          <p:nvPr/>
        </p:nvSpPr>
        <p:spPr>
          <a:xfrm>
            <a:off x="0" y="0"/>
            <a:ext cx="914400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1. МЕСО, РИБЕ, ЈА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ИБЕ И ПРИ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ЗВОДИ - свој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адржај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угљених хидрата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је од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0,5 до 1%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а енергетска вредност зависи од садржаја масти и варира од 70 kcal за посне рибе до 230 kcal за масне ри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Рибе су главни </a:t>
            </a:r>
            <a:r>
              <a:rPr b="1" lang="fr-FR" sz="3200" spc="-1" strike="noStrike">
                <a:solidFill>
                  <a:srgbClr val="000000"/>
                </a:solidFill>
                <a:latin typeface="Times New Roman"/>
              </a:rPr>
              <a:t>извор Ј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, а мање: </a:t>
            </a:r>
            <a:r>
              <a:rPr b="1" lang="fr-FR" sz="3200" spc="-1" strike="noStrike">
                <a:solidFill>
                  <a:srgbClr val="000000"/>
                </a:solidFill>
                <a:latin typeface="Times New Roman"/>
              </a:rPr>
              <a:t>Ca 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(већи када се једу са костима), </a:t>
            </a:r>
            <a:r>
              <a:rPr b="1" lang="fr-FR" sz="3200" spc="-1" strike="noStrike">
                <a:solidFill>
                  <a:srgbClr val="000000"/>
                </a:solidFill>
                <a:latin typeface="Times New Roman"/>
              </a:rPr>
              <a:t>Na, Z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д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витамин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рибе садрже једино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А и 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3"/>
          <p:cNvSpPr/>
          <p:nvPr/>
        </p:nvSpPr>
        <p:spPr>
          <a:xfrm>
            <a:off x="0" y="0"/>
            <a:ext cx="9144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1. МЕСО, РИБЕ, ЈА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РИБЕ И ПР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ИЗВОДИ - чување и обра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Због високог садржаја воде,  беланчевина и незасићених масти рибе лако подлежу кварењу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По улову се морају брзо обрадити и сачувати на одговарајући начин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3"/>
          <p:cNvSpPr/>
          <p:nvPr/>
        </p:nvSpPr>
        <p:spPr>
          <a:xfrm>
            <a:off x="0" y="0"/>
            <a:ext cx="9144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1. МЕСО, РИБЕ, ЈА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РИБЕ И ПР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ИЗВОДИ - чување и обра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Могу се чувати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мрзавањ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имљењ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</a:rPr>
              <a:t>прављењем р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ибљи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конзерв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3"/>
          <p:cNvSpPr/>
          <p:nvPr/>
        </p:nvSpPr>
        <p:spPr>
          <a:xfrm>
            <a:off x="0" y="0"/>
            <a:ext cx="914400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1. МЕСО, РИБЕ, ЈА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ИБЕ И ПР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ИЗВОДИ - чување и обра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мрзавањ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Риба се може чувати на температури о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-3 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 највише 5 да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18 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 највише до 6 месец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Хранљива вредност меса остаје очувана ако је поступак замрзавања правилно изведен,                     а одмрзавање постепено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3"/>
          <p:cNvSpPr/>
          <p:nvPr/>
        </p:nvSpPr>
        <p:spPr>
          <a:xfrm>
            <a:off x="0" y="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1. МЕСО, РИБЕ, ЈА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РИБЕ И ПР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ИЗВОДИ - чување и обра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Димљењ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Месо се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усоли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, па излаже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хладном диму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(25 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0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C) или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врелом диму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(90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0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 C)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Побољшава се мирис и укус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3"/>
          <p:cNvSpPr/>
          <p:nvPr/>
        </p:nvSpPr>
        <p:spPr>
          <a:xfrm>
            <a:off x="0" y="0"/>
            <a:ext cx="91440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Times New Roman"/>
              </a:rPr>
              <a:t>1. МЕСО, РИБЕ, ЈА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РИБЕ И ПР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ЗВОДИ -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чување и обра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Рибље конзерв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Рибе се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кулинарски припреме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и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став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у лименке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које се излажу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температури од 120 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C и притиску од 1 atm у аутоклав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Трајање стерилизације зависи од величине лименк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На овај начин месо се може чувати веома дуго, на собној температури у сувој и проветреној просториј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3"/>
          <p:cNvSpPr/>
          <p:nvPr/>
        </p:nvSpPr>
        <p:spPr>
          <a:xfrm>
            <a:off x="0" y="0"/>
            <a:ext cx="8991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1. МЕСО, РИБЕ, ЈА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ЈА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Највећу вредност у исхрани људи имају кокошија јај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3"/>
          <p:cNvSpPr/>
          <p:nvPr/>
        </p:nvSpPr>
        <p:spPr>
          <a:xfrm>
            <a:off x="0" y="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. МЕСО, РИБЕ, ЈА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ЈАЈА -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свој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Јаје је намирница која има велику биолошку вредност и то пре свега због високо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квалитетних беланчевина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(12-13%)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- садрже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све есенцијалне аминокиселине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у одговарајућем односу, а могућност искоришћења је потпуна</a:t>
            </a:r>
            <a:r>
              <a:rPr b="0" lang="sr-Latn-CS" sz="3600" spc="-1" strike="noStrike">
                <a:solidFill>
                  <a:srgbClr val="000000"/>
                </a:solidFill>
                <a:latin typeface="Times New Roman"/>
              </a:rPr>
              <a:t> (100%)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3"/>
          <p:cNvSpPr/>
          <p:nvPr/>
        </p:nvSpPr>
        <p:spPr>
          <a:xfrm>
            <a:off x="0" y="0"/>
            <a:ext cx="91440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1. МЕСО, РИБЕ, ЈА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ЈАЈА -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свој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Масти јаја (14%) су богате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фосфолипидим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а однос масних киселина је у корист полинезасићени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Највише холестерола има у жуманцету (30%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3"/>
          <p:cNvSpPr/>
          <p:nvPr/>
        </p:nvSpPr>
        <p:spPr>
          <a:xfrm>
            <a:off x="0" y="0"/>
            <a:ext cx="91440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ЖИТАРИЦЕ И ПРОИЗВО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Садрже (са варијацијама у односу на врсту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до </a:t>
            </a:r>
            <a:r>
              <a:rPr b="1" lang="fr-FR" sz="3200" spc="-1" strike="noStrike">
                <a:solidFill>
                  <a:srgbClr val="000000"/>
                </a:solidFill>
                <a:latin typeface="Times New Roman"/>
              </a:rPr>
              <a:t>80% угљених хидрата 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(највише скроба и нешто моносахарида и влакана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Times New Roman"/>
              </a:rPr>
              <a:t>8-16% протеин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Times New Roman"/>
              </a:rPr>
              <a:t>2-7% мас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Times New Roman"/>
              </a:rPr>
              <a:t>око 2% микронутрије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ната</a:t>
            </a:r>
            <a:r>
              <a:rPr b="1" lang="fr-F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fr-FR" sz="3200" spc="-1" strike="noStrike">
                <a:solidFill>
                  <a:srgbClr val="000000"/>
                </a:solidFill>
                <a:latin typeface="Times New Roman"/>
              </a:rPr>
              <a:t>минералне материје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fr-FR" sz="3200" spc="-1" strike="noStrike">
                <a:solidFill>
                  <a:srgbClr val="000000"/>
                </a:solidFill>
                <a:latin typeface="Times New Roman"/>
              </a:rPr>
              <a:t>калцијум, фосфор, гвожђе, бакар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1" lang="fr-FR" sz="3200" spc="-1" strike="noStrike">
                <a:solidFill>
                  <a:srgbClr val="000000"/>
                </a:solidFill>
                <a:latin typeface="Times New Roman"/>
              </a:rPr>
              <a:t>витамине: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r-FR" sz="3200" spc="-1" strike="noStrike">
                <a:solidFill>
                  <a:srgbClr val="000000"/>
                </a:solidFill>
                <a:latin typeface="Times New Roman"/>
              </a:rPr>
              <a:t>Б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0" i="1" lang="fr-FR" sz="3200" spc="-1" strike="noStrike">
                <a:solidFill>
                  <a:srgbClr val="000000"/>
                </a:solidFill>
                <a:latin typeface="Times New Roman"/>
              </a:rPr>
              <a:t> групе, Е и Д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3"/>
          <p:cNvSpPr/>
          <p:nvPr/>
        </p:nvSpPr>
        <p:spPr>
          <a:xfrm>
            <a:off x="0" y="0"/>
            <a:ext cx="9144000" cy="35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Times New Roman"/>
              </a:rPr>
              <a:t>1. МЕСО, РИБЕ, ЈА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ЈАЈА -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свој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Угљених хидрата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има око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%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а енергетска вредност 100 g јаја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2 комад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износи 150-160 Кc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Жуманце је богато F, Ca i F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а има и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итамина: А и D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3"/>
          <p:cNvSpPr/>
          <p:nvPr/>
        </p:nvSpPr>
        <p:spPr>
          <a:xfrm>
            <a:off x="0" y="0"/>
            <a:ext cx="914400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Times New Roman"/>
              </a:rPr>
              <a:t>1. МЕСО, РИБЕ, ЈАЈ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ЈАЈА - чување и обра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sr-Latn-C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х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лађењ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sr-Latn-C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к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онзервисана јај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sr-Latn-C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с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мрзнути мелан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sr-Latn-C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ј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аја у прах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3"/>
          <p:cNvSpPr/>
          <p:nvPr/>
        </p:nvSpPr>
        <p:spPr>
          <a:xfrm>
            <a:off x="0" y="0"/>
            <a:ext cx="91440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1. МЕСО, РИБЕ, ЈА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ЈАЈА - чување и обра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Хлађењ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Јаја се чувају на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температур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од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1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до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ри релативној влажности ваздуха до 90% и више месец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3"/>
          <p:cNvSpPr/>
          <p:nvPr/>
        </p:nvSpPr>
        <p:spPr>
          <a:xfrm>
            <a:off x="0" y="0"/>
            <a:ext cx="9144000" cy="48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Times New Roman"/>
              </a:rPr>
              <a:t>1. МЕСО, РИБЕ, ЈА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ЈАЈА - чување и обра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Конзервисана ја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аја се могу чувати у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Ø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ечној води-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 креча и воде (неколико месеци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Ø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еном стаклу-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 натријум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иката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9-12 месец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Ø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чном парафину 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9-12 месеци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3"/>
          <p:cNvSpPr/>
          <p:nvPr/>
        </p:nvSpPr>
        <p:spPr>
          <a:xfrm>
            <a:off x="0" y="0"/>
            <a:ext cx="9144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1. МЕСО, РИБЕ, ЈА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ЈАЈА - чување и обра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Смрзнути мелан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Овај начин чувања подразумева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чување течних јаја, без љуске, хомогенизованих, пастеризованих, охлађених и стављених у одговарајућу амбалажу на – 30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0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C до 12 месеци.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  <a:ea typeface="Arial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3"/>
          <p:cNvSpPr/>
          <p:nvPr/>
        </p:nvSpPr>
        <p:spPr>
          <a:xfrm>
            <a:off x="0" y="0"/>
            <a:ext cx="91440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Times New Roman"/>
              </a:rPr>
              <a:t>1. МЕСО, РИБЕ, ЈА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ЈАЈА -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чување и обра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Јаја у прах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Јаја у праху се добијају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сушењем хомогенизоване масе беланца и жуманц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(или посебно) у комори кроз коју пролази топао ваздух (60-7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C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Т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ако третирана јаја могу се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чувати 12 месец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Употребљавају се додавањем воде (1:2,5 делова воде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3"/>
          <p:cNvSpPr/>
          <p:nvPr/>
        </p:nvSpPr>
        <p:spPr>
          <a:xfrm>
            <a:off x="0" y="0"/>
            <a:ext cx="914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 МЛЕКО И МЛЕЧНИ ПРОИЗВОД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У исхрани људи уобичајено се под млеком подразумева кравље млек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Хемијски млеко је емулзија масти у воденом раствору протеина, лактозе и минералних материја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3"/>
          <p:cNvSpPr/>
          <p:nvPr/>
        </p:nvSpPr>
        <p:spPr>
          <a:xfrm>
            <a:off x="0" y="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 МЛЕКО И МЛЕЧНИ ПРОИЗВОД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Млеко учествује у исхрани људи у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неразвијеном свету са нешто преко 2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земљама у развоју са око 3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развијеном свету са преко 8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Састав и нутритивна вредност млека зависи од врст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3"/>
          <p:cNvSpPr/>
          <p:nvPr/>
        </p:nvSpPr>
        <p:spPr>
          <a:xfrm>
            <a:off x="0" y="0"/>
            <a:ext cx="91440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МЛЕКО И МЛЕЧНИ ПРОИЗВОД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 крављем млеку и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8% вод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,5% протеина (80% казеина), лакалбумина, лактглобулина, имуноглобулина и албумина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рвног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ерума (протеини сурутке са имунолошким својствима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,5-6% масти (триглицерида, нешто фосфолипида, лецитина и холестерола, садржај незасићених масних киселина је низак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4,6% дисахарид лактаз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инералних материја (Ca, F, K, Na, Mg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итамина (A, D, E, B grupe, 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3"/>
          <p:cNvSpPr/>
          <p:nvPr/>
        </p:nvSpPr>
        <p:spPr>
          <a:xfrm>
            <a:off x="0" y="0"/>
            <a:ext cx="914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 МЛЕКО И МЛЕЧНИ ПРОИЗВОД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Енергетска вредност 100ml крављег млека је 67 Кcal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Искористљивост беланчевина из крављег </a:t>
            </a:r>
            <a:r>
              <a:rPr b="0" lang="sr-Latn-CS" sz="36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лека је потпуна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3"/>
          <p:cNvSpPr/>
          <p:nvPr/>
        </p:nvSpPr>
        <p:spPr>
          <a:xfrm>
            <a:off x="0" y="0"/>
            <a:ext cx="9144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 ЖИТАРИЦЕ И ПРОИЗВОД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Times New Roman"/>
              </a:rPr>
              <a:t>Ретко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 се користе </a:t>
            </a:r>
            <a:r>
              <a:rPr b="1" lang="fr-FR" sz="3600" spc="-1" strike="noStrike">
                <a:solidFill>
                  <a:srgbClr val="000000"/>
                </a:solidFill>
                <a:latin typeface="Times New Roman"/>
              </a:rPr>
              <a:t>без претходне обраде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Најчешће се </a:t>
            </a:r>
            <a:r>
              <a:rPr b="1" lang="fr-FR" sz="3600" spc="-1" strike="noStrike">
                <a:solidFill>
                  <a:srgbClr val="000000"/>
                </a:solidFill>
                <a:latin typeface="Times New Roman"/>
              </a:rPr>
              <a:t>користи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fr-FR" sz="3600" spc="-1" strike="noStrike">
                <a:solidFill>
                  <a:srgbClr val="000000"/>
                </a:solidFill>
                <a:latin typeface="Times New Roman"/>
              </a:rPr>
              <a:t>љуштење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fr-FR" sz="3600" spc="-1" strike="noStrike">
                <a:solidFill>
                  <a:srgbClr val="000000"/>
                </a:solidFill>
                <a:latin typeface="Times New Roman"/>
              </a:rPr>
              <a:t>пиринач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) или </a:t>
            </a:r>
            <a:r>
              <a:rPr b="1" lang="fr-FR" sz="3600" spc="-1" strike="noStrike">
                <a:solidFill>
                  <a:srgbClr val="000000"/>
                </a:solidFill>
                <a:latin typeface="Times New Roman"/>
              </a:rPr>
              <a:t>млевење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fr-FR" sz="3600" spc="-1" strike="noStrike">
                <a:solidFill>
                  <a:srgbClr val="000000"/>
                </a:solidFill>
                <a:latin typeface="Times New Roman"/>
              </a:rPr>
              <a:t>пшеница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Поступак прераде најчешће мења хранљиву вредност и особине производа, а од степена издвајања директно зависи биолошка и дијететска вреднос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3"/>
          <p:cNvSpPr/>
          <p:nvPr/>
        </p:nvSpPr>
        <p:spPr>
          <a:xfrm>
            <a:off x="0" y="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 МЛЕКО И МЛЕЧНИ ПРОИЗВОД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Подела млечних производа према начину термичке обраде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астеризован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терилизован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итаминизиран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ондензован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леко у прах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нстант млеко у прах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3"/>
          <p:cNvSpPr/>
          <p:nvPr/>
        </p:nvSpPr>
        <p:spPr>
          <a:xfrm>
            <a:off x="0" y="0"/>
            <a:ext cx="91440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МЛЕКО И МЛЕЧНИ ПРОИЗВОД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800" spc="-1" strike="noStrike">
                <a:solidFill>
                  <a:srgbClr val="000000"/>
                </a:solidFill>
                <a:latin typeface="Times New Roman"/>
              </a:rPr>
              <a:t>Пастеризовани млечни производ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Уништавају се само вегетативни облици микроорганизама. Добија се </a:t>
            </a:r>
            <a:r>
              <a:rPr b="1" lang="nl-NL" sz="2800" spc="-1" strike="noStrike">
                <a:solidFill>
                  <a:srgbClr val="000000"/>
                </a:solidFill>
                <a:latin typeface="Times New Roman"/>
              </a:rPr>
              <a:t>загревањем млека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nl-NL" sz="2800" spc="-1" strike="noStrike">
                <a:solidFill>
                  <a:srgbClr val="000000"/>
                </a:solidFill>
                <a:latin typeface="Times New Roman"/>
              </a:rPr>
              <a:t>63-65</a:t>
            </a:r>
            <a:r>
              <a:rPr b="1" lang="nl-NL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nl-NL" sz="2800" spc="-1" strike="noStrike">
                <a:solidFill>
                  <a:srgbClr val="000000"/>
                </a:solidFill>
                <a:latin typeface="Times New Roman"/>
              </a:rPr>
              <a:t>C у трајању од 30 минута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(ниска пастеризација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82</a:t>
            </a:r>
            <a:r>
              <a:rPr b="1" lang="de-DE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C у трајању од 20 секунди 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(висока пастеризација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72-76</a:t>
            </a:r>
            <a:r>
              <a:rPr b="1" lang="de-DE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C у трајању од 15 до 20 секунди 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(краткотрајна пастеријазија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3"/>
          <p:cNvSpPr/>
          <p:nvPr/>
        </p:nvSpPr>
        <p:spPr>
          <a:xfrm>
            <a:off x="0" y="0"/>
            <a:ext cx="91440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. МЛЕКО И МЛЕЧНИ ПРОИЗВОД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Times New Roman"/>
              </a:rPr>
              <a:t>Пастеризовани млечни производ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Times New Roman"/>
              </a:rPr>
              <a:t>Морају се чувати на 1-4</a:t>
            </a:r>
            <a:r>
              <a:rPr b="1" lang="fr-FR" sz="4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fr-FR" sz="4000" spc="-1" strike="noStrike">
                <a:solidFill>
                  <a:srgbClr val="000000"/>
                </a:solidFill>
                <a:latin typeface="Times New Roman"/>
              </a:rPr>
              <a:t>, а пре употребе мора се прокувати 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3"/>
          <p:cNvSpPr/>
          <p:nvPr/>
        </p:nvSpPr>
        <p:spPr>
          <a:xfrm>
            <a:off x="0" y="0"/>
            <a:ext cx="9144000" cy="61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МЛЕКО И МЛЕЧНИ ПРОИЗВОД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200" spc="-1" strike="noStrike">
                <a:solidFill>
                  <a:srgbClr val="000000"/>
                </a:solidFill>
                <a:latin typeface="Times New Roman"/>
              </a:rPr>
              <a:t>Стерилизовани млечни произво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ија се 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гревањем млека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0-120</a:t>
            </a:r>
            <a:r>
              <a:rPr b="1" lang="nl-NL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 трајању од 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-40 минута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тари начин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0-150</a:t>
            </a:r>
            <a:r>
              <a:rPr b="1" lang="nl-NL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 тајању од 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до 2 секунде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ан амбалаже, хомогенизује и сипа у стерилисане судове (UHT стерилизација, краткотрајна стерилизација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3"/>
          <p:cNvSpPr/>
          <p:nvPr/>
        </p:nvSpPr>
        <p:spPr>
          <a:xfrm>
            <a:off x="0" y="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 МЛЕКО И МЛЕЧНИ ПРОИЗВОД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Стерилизовани млечни производ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Млеко прерађено на овај начин има високу биолошку вредност и непромењена органолептичка својства, осим благе жуте боје.</a:t>
            </a:r>
            <a:r>
              <a:rPr b="0" lang="nl-NL" sz="3600" spc="-1" strike="noStrike">
                <a:solidFill>
                  <a:srgbClr val="ffffcc"/>
                </a:solidFill>
                <a:latin typeface="Times New Roman"/>
                <a:ea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3"/>
          <p:cNvSpPr/>
          <p:nvPr/>
        </p:nvSpPr>
        <p:spPr>
          <a:xfrm>
            <a:off x="0" y="0"/>
            <a:ext cx="91440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МЛЕКО И МЛЕЧНИ ПРОИЗВО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200" spc="-1" strike="noStrike">
                <a:solidFill>
                  <a:srgbClr val="000000"/>
                </a:solidFill>
                <a:latin typeface="Times New Roman"/>
              </a:rPr>
              <a:t>Витаминизирани млечни производ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Млеку се додају витамин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и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А и 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200" spc="-1" strike="noStrike">
                <a:solidFill>
                  <a:srgbClr val="000000"/>
                </a:solidFill>
                <a:latin typeface="Times New Roman"/>
              </a:rPr>
              <a:t>Кондензовани млечни производ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Добија се 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испаравањем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1/3 до ½ 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воде са додавањем шећера или без њег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Може се чувати на температури до 10</a:t>
            </a:r>
            <a:r>
              <a:rPr b="0" lang="nl-NL" sz="32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0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3"/>
          <p:cNvSpPr/>
          <p:nvPr/>
        </p:nvSpPr>
        <p:spPr>
          <a:xfrm>
            <a:off x="0" y="0"/>
            <a:ext cx="914400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МЛЕКО И МЛЕЧНИ ПРОИЗВО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nl-NL" sz="3200" spc="-1" strike="noStrike">
                <a:solidFill>
                  <a:srgbClr val="000000"/>
                </a:solidFill>
                <a:latin typeface="Times New Roman"/>
              </a:rPr>
              <a:t>Млеко у прах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Добија се 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сушењем до садржаја воде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од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4-6%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Може бити пуномасно (најмање 25% масти), полуобрано (12,5% масти) и обра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Трајност овог млека је 8 до 12 месец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Рехидрација се обавља додатком воде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         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(на 1000 ml воде додаје се 125 g млека)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3"/>
          <p:cNvSpPr/>
          <p:nvPr/>
        </p:nvSpPr>
        <p:spPr>
          <a:xfrm>
            <a:off x="0" y="0"/>
            <a:ext cx="9144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 МЛЕКО И МЛЕЧНИ ПРОИЗВОД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600" spc="-1" strike="noStrike">
                <a:solidFill>
                  <a:srgbClr val="000000"/>
                </a:solidFill>
                <a:latin typeface="Times New Roman"/>
              </a:rPr>
              <a:t>Инстант млеко у прах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Добија се специјалним технолошким поступком и боље се реконстрише од обичног мле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3"/>
          <p:cNvSpPr/>
          <p:nvPr/>
        </p:nvSpPr>
        <p:spPr>
          <a:xfrm>
            <a:off x="0" y="0"/>
            <a:ext cx="9144000" cy="600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 МЛЕКО И МЛЕЧНИ ПРОИЗВОДИ -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ферментисани</a:t>
            </a:r>
            <a:r>
              <a:rPr b="1" i="1" lang="nl-NL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млечни</a:t>
            </a:r>
            <a:r>
              <a:rPr b="1" i="1" lang="nl-NL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производ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Добијају</a:t>
            </a: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се</a:t>
            </a: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ферментацијом</a:t>
            </a: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под</a:t>
            </a: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дејством</a:t>
            </a: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млечнокиселинским</a:t>
            </a: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бактерија</a:t>
            </a: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чиме</a:t>
            </a: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се</a:t>
            </a: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ослобађа</a:t>
            </a: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млечна</a:t>
            </a: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киселина</a:t>
            </a: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из</a:t>
            </a: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лактозе</a:t>
            </a: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долази</a:t>
            </a: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до</a:t>
            </a: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пада</a:t>
            </a: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H</a:t>
            </a: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чиме</a:t>
            </a: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се</a:t>
            </a: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зауставља</a:t>
            </a: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раст</a:t>
            </a: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многих</a:t>
            </a: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патогених</a:t>
            </a: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бактерија</a:t>
            </a: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добија</a:t>
            </a: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се</a:t>
            </a: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стабилизован</a:t>
            </a: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производ</a:t>
            </a: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3"/>
          <p:cNvSpPr/>
          <p:nvPr/>
        </p:nvSpPr>
        <p:spPr>
          <a:xfrm>
            <a:off x="0" y="0"/>
            <a:ext cx="91440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МЛЕКО И МЛЕЧНИ ПРОИЗВОДИ - </a:t>
            </a:r>
            <a:r>
              <a:rPr b="1" i="1" lang="nl-NL" sz="3200" spc="-1" strike="noStrike">
                <a:solidFill>
                  <a:srgbClr val="000000"/>
                </a:solidFill>
                <a:latin typeface="Times New Roman"/>
              </a:rPr>
              <a:t>ферментисани млечни произво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Ферментисани производи су освежавајућег укуса, лако се варе и имају широку примену у дијететиц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Чувају се на температури од 1 до 4</a:t>
            </a:r>
            <a:r>
              <a:rPr b="1" lang="nl-NL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                 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 највише 5-7 дана.</a:t>
            </a:r>
            <a:r>
              <a:rPr b="1" lang="nl-NL" sz="3200" spc="-1" strike="noStrike">
                <a:solidFill>
                  <a:srgbClr val="ffffcc"/>
                </a:solidFill>
                <a:latin typeface="Times New Roman"/>
              </a:rPr>
              <a:t>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3"/>
          <p:cNvSpPr/>
          <p:nvPr/>
        </p:nvSpPr>
        <p:spPr>
          <a:xfrm>
            <a:off x="0" y="0"/>
            <a:ext cx="914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 ЖИТАРИЦЕ И ПРОИЗВОД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Производи од житарица су 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r-FR" sz="3600" spc="-1" strike="noStrike">
                <a:solidFill>
                  <a:srgbClr val="000000"/>
                </a:solidFill>
                <a:latin typeface="Times New Roman"/>
              </a:rPr>
              <a:t>Брашн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r-FR" sz="3600" spc="-1" strike="noStrike">
                <a:solidFill>
                  <a:srgbClr val="000000"/>
                </a:solidFill>
                <a:latin typeface="Times New Roman"/>
              </a:rPr>
              <a:t>Хлеб и пеци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3"/>
          <p:cNvSpPr/>
          <p:nvPr/>
        </p:nvSpPr>
        <p:spPr>
          <a:xfrm>
            <a:off x="0" y="0"/>
            <a:ext cx="8991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 МЛЕКО И МЛЕЧНИ ПРОИЗВОДИ - </a:t>
            </a:r>
            <a:r>
              <a:rPr b="1" i="1" lang="nl-NL" sz="3600" spc="-1" strike="noStrike">
                <a:solidFill>
                  <a:srgbClr val="000000"/>
                </a:solidFill>
                <a:latin typeface="Times New Roman"/>
              </a:rPr>
              <a:t>ферментисани млечни производ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Највише се корист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исело млеко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</a:rPr>
              <a:t>ј</a:t>
            </a: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огурт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стали кисело млечни производ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3"/>
          <p:cNvSpPr/>
          <p:nvPr/>
        </p:nvSpPr>
        <p:spPr>
          <a:xfrm>
            <a:off x="0" y="0"/>
            <a:ext cx="9144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 МЛЕКО И МЛЕЧНИ ПРОИЗВОДИ - </a:t>
            </a:r>
            <a:r>
              <a:rPr b="1" i="1" lang="nl-NL" sz="3600" spc="-1" strike="noStrike">
                <a:solidFill>
                  <a:srgbClr val="000000"/>
                </a:solidFill>
                <a:latin typeface="Times New Roman"/>
              </a:rPr>
              <a:t>ферментисани млечни производ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 u="sng">
                <a:solidFill>
                  <a:srgbClr val="000000"/>
                </a:solidFill>
                <a:uFillTx/>
                <a:latin typeface="Times New Roman"/>
              </a:rPr>
              <a:t>Маслац или бутер </a:t>
            </a: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је производ добијен </a:t>
            </a: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бућкањем павлаке, </a:t>
            </a: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сирове или пастеризоване, и представља млечну маст уз одређен проценат једнако распоређене вод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Садржај воде је највише 16%, а млечне масти до 80%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3"/>
          <p:cNvSpPr/>
          <p:nvPr/>
        </p:nvSpPr>
        <p:spPr>
          <a:xfrm>
            <a:off x="0" y="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 МЛЕКО И МЛЕЧНИ ПРОИЗВОДИ - </a:t>
            </a:r>
            <a:r>
              <a:rPr b="1" i="1" lang="nl-NL" sz="3600" spc="-1" strike="noStrike">
                <a:solidFill>
                  <a:srgbClr val="000000"/>
                </a:solidFill>
                <a:latin typeface="Times New Roman"/>
              </a:rPr>
              <a:t>ферментисани млечни производ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600" spc="-1" strike="noStrike">
                <a:solidFill>
                  <a:srgbClr val="000000"/>
                </a:solidFill>
                <a:latin typeface="Times New Roman"/>
              </a:rPr>
              <a:t>Павлака, маслац и други производ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Енергетска вредност маслаца је 700-750 Кcal</a:t>
            </a:r>
            <a:r>
              <a:rPr b="0" lang="sr-Latn-CS" sz="3600" spc="-1" strike="noStrike">
                <a:solidFill>
                  <a:srgbClr val="000000"/>
                </a:solidFill>
                <a:latin typeface="Times New Roman"/>
              </a:rPr>
              <a:t>/100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Има висок садржај витамина А и нешто витамина D и Е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3"/>
          <p:cNvSpPr/>
          <p:nvPr/>
        </p:nvSpPr>
        <p:spPr>
          <a:xfrm>
            <a:off x="0" y="0"/>
            <a:ext cx="9144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3. МАСТИ И УЉ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У исхрани људи масти се користе као издвојена хран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а (видљиве масти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3"/>
          <p:cNvSpPr/>
          <p:nvPr/>
        </p:nvSpPr>
        <p:spPr>
          <a:xfrm>
            <a:off x="0" y="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3. МАСТИ И УЉА - </a:t>
            </a:r>
            <a:r>
              <a:rPr b="1" i="1" lang="nl-NL" sz="3600" spc="-1" strike="noStrike">
                <a:solidFill>
                  <a:srgbClr val="000000"/>
                </a:solidFill>
                <a:latin typeface="Times New Roman"/>
              </a:rPr>
              <a:t>поде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Подела по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i="1" lang="sr-Latn-C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к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онзистенцији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i="1" lang="sr-Latn-C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п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орекл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3"/>
          <p:cNvSpPr/>
          <p:nvPr/>
        </p:nvSpPr>
        <p:spPr>
          <a:xfrm>
            <a:off x="0" y="0"/>
            <a:ext cx="914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3. МАСТИ И УЉА - </a:t>
            </a:r>
            <a:r>
              <a:rPr b="1" i="1" lang="nl-NL" sz="3600" spc="-1" strike="noStrike">
                <a:solidFill>
                  <a:srgbClr val="000000"/>
                </a:solidFill>
                <a:latin typeface="Times New Roman"/>
              </a:rPr>
              <a:t>поде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По конзистенцији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</a:rPr>
              <a:t> разликујемо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Чврсте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(добијају се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из животињских производа)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Течне (уља-добијају се из биљака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3"/>
          <p:cNvSpPr/>
          <p:nvPr/>
        </p:nvSpPr>
        <p:spPr>
          <a:xfrm>
            <a:off x="0" y="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3. МАСТИ И УЉА - </a:t>
            </a:r>
            <a:r>
              <a:rPr b="1" i="1" lang="nl-NL" sz="3600" spc="-1" strike="noStrike">
                <a:solidFill>
                  <a:srgbClr val="000000"/>
                </a:solidFill>
                <a:latin typeface="Times New Roman"/>
              </a:rPr>
              <a:t>поде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По пореклу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</a:rPr>
              <a:t> разликујемо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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масти животињског порекла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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масти биљног порекл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3"/>
          <p:cNvSpPr/>
          <p:nvPr/>
        </p:nvSpPr>
        <p:spPr>
          <a:xfrm>
            <a:off x="0" y="0"/>
            <a:ext cx="914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3. МАСТИ И УЉА - поде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Масти животињског порекла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бутер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свињска маст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лој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сланина и др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3"/>
          <p:cNvSpPr/>
          <p:nvPr/>
        </p:nvSpPr>
        <p:spPr>
          <a:xfrm>
            <a:off x="0" y="0"/>
            <a:ext cx="914400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Times New Roman"/>
              </a:rPr>
              <a:t>3. МАСТИ И УЉА - подел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Масти биљног порекла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уље из семенки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уље из маслина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маргарин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just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3"/>
          <p:cNvSpPr/>
          <p:nvPr/>
        </p:nvSpPr>
        <p:spPr>
          <a:xfrm>
            <a:off x="0" y="0"/>
            <a:ext cx="8991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3. МАСТИ И УЉА - поде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Масти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љног порек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уље из семенки: сунцокрета,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 бундеве, соје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лана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 и др. (добијена поступком рафинације и топлог цеђења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уље из маслина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добијена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поступком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рафинације и хладног цеђења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8-25T21:43:12Z</dcterms:created>
  <dc:creator>Maja</dc:creator>
  <dc:description/>
  <dc:language>en-US</dc:language>
  <cp:lastModifiedBy>Maja</cp:lastModifiedBy>
  <dcterms:modified xsi:type="dcterms:W3CDTF">2020-09-29T16:52:48Z</dcterms:modified>
  <cp:revision>82</cp:revision>
  <dc:subject/>
  <dc:title>Slide 1</dc:title>
</cp:coreProperties>
</file>